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20017"/>
        <c:axId val="65631610"/>
      </c:barChart>
      <c:catAx>
        <c:axId val="91620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31610"/>
        <c:crosses val="autoZero"/>
        <c:auto val="1"/>
        <c:lblAlgn val="ctr"/>
        <c:lblOffset val="100"/>
        <c:noMultiLvlLbl val="0"/>
      </c:catAx>
      <c:valAx>
        <c:axId val="65631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20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512-1D2D-4B37-B0B4-6A5C15FA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C28-08E0-4355-A4C4-48C5569E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77C-D2BB-4E80-805D-BA137AA7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C63-A280-43CF-9C37-7A7611AD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EF1-5FA9-4E3F-B813-572A328D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2A0-87D1-4F9F-9308-4C67411C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F69-FAD6-4321-90FC-1EAF8C83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6E6-CE6F-4B2B-AB25-CA441011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1A3-FE53-4EBF-82BD-7977D614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7A7-FBBC-4F36-BA02-F17E3E6D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7BF-2776-4C41-BD11-8B6F197F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D29-12EC-4F82-947F-7CACE434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289E9-399C-42C9-9DEA-8C2D183916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