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02167"/>
        <c:axId val="32019474"/>
      </c:barChart>
      <c:catAx>
        <c:axId val="57702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19474"/>
        <c:crosses val="autoZero"/>
        <c:auto val="1"/>
        <c:lblAlgn val="ctr"/>
        <c:lblOffset val="100"/>
        <c:noMultiLvlLbl val="0"/>
      </c:catAx>
      <c:valAx>
        <c:axId val="32019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02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0A3-F8F2-4CE1-9199-316E53E8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A4A-2119-4EA1-A39C-96E9C8F5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16A-EFD7-4B08-9F15-46296183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88B-C9BF-4808-9CF4-F59CA9B4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E4D-A554-4EA9-93BA-83F4FD95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D6E-5710-4E44-AC3B-43480959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D7E-C556-42BB-80D7-8C00E86B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FF0-496F-4307-B322-6BB39D93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C3B-9137-4277-8760-280D745E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565-0E1B-4E86-A109-A0B2E2CB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D2C-8229-470D-9F59-659109BC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03B-384F-45F2-AA30-8C31CA7F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84EB8-CBB5-408F-9E97-9BE4E632A0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