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40866"/>
        <c:axId val="56336521"/>
      </c:barChart>
      <c:catAx>
        <c:axId val="744408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36521"/>
        <c:crosses val="autoZero"/>
        <c:auto val="1"/>
        <c:lblAlgn val="ctr"/>
        <c:lblOffset val="100"/>
        <c:noMultiLvlLbl val="0"/>
      </c:catAx>
      <c:valAx>
        <c:axId val="563365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408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4EBA-4096-45A3-9C52-E6A8E3DA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0055-DF68-4C02-A0D8-436E06382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BB2A-849C-4649-9331-879741A69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CB3D-80F6-4E1F-A8D8-CD91C88D4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B1A1F-7376-4543-A729-CAB31ED0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6C4-47C6-4690-9604-DE9708C2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B6DF-0559-4D63-92B5-00F45B2D8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71DF-7456-4C48-A3B7-2FFC8C9A3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9E9D-0CBA-4429-9D5C-E99B652C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0F0E-6113-4AF0-939E-CEA0C8C75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C495-3266-45E9-8F09-0C5526FC8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AADA-D616-4EB2-85EB-BFFA0EBA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6BB27E-0E03-41A9-A291-13F7FCA148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