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36496"/>
        <c:axId val="36127354"/>
      </c:barChart>
      <c:catAx>
        <c:axId val="31936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27354"/>
        <c:crosses val="autoZero"/>
        <c:auto val="1"/>
        <c:lblAlgn val="ctr"/>
        <c:lblOffset val="100"/>
        <c:noMultiLvlLbl val="0"/>
      </c:catAx>
      <c:valAx>
        <c:axId val="36127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36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89D-EA4B-4D52-AA8B-8F637187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91E-BB17-4857-874B-E242F961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629-A444-4777-956F-A9D5C8FD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C5B-643D-47EE-BD0A-0DCE45F8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9C9-A929-4709-8C9A-251892C1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5E9-59FB-4632-95A7-542667DC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969-56C5-4F4C-B07D-CC2B64CE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3ED-5CF7-4CED-8BEF-1BD37FF5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F1B-F7EA-49E8-9B12-09E1B72A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773-A217-4D9F-A82A-2D3AD0A5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162-174C-4AED-B5C0-55834296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959-BE78-47B0-B87E-81CF82F3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A54ED-F281-431D-97B7-0EAC51E4F7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