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10705"/>
        <c:axId val="19424170"/>
      </c:barChart>
      <c:catAx>
        <c:axId val="58610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24170"/>
        <c:crosses val="autoZero"/>
        <c:auto val="1"/>
        <c:lblAlgn val="ctr"/>
        <c:lblOffset val="100"/>
        <c:noMultiLvlLbl val="0"/>
      </c:catAx>
      <c:valAx>
        <c:axId val="19424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10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1DD-7C83-4050-B332-8D6A23D0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229-55A2-42D6-B091-298DE6CC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24F-89AE-4415-B74F-AEB0C1DD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080-E52E-4A42-B661-4482FE51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A0E-D207-41EC-A34A-5F581A41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2F0-C7FB-48AD-BD3B-4977496C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6E2-13F9-4618-908C-15939B02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342-EAFB-43A5-8FDD-B946803F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F4F-F52F-4FFB-A54B-486871CA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316-F9A2-49D6-83E0-CD868B2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283-6E8B-4583-8DF9-0F4A329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21A-DD61-43DC-987F-B2A85CF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9DEEA-3B40-4762-B31F-1B6ACC4B11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