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915179"/>
        <c:axId val="32721675"/>
      </c:barChart>
      <c:catAx>
        <c:axId val="589151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721675"/>
        <c:crosses val="autoZero"/>
        <c:auto val="1"/>
        <c:lblAlgn val="ctr"/>
        <c:lblOffset val="100"/>
        <c:noMultiLvlLbl val="0"/>
      </c:catAx>
      <c:valAx>
        <c:axId val="327216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9151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4D09-C1B8-4D6B-9EC5-1CF39581E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C2E-70F8-4D48-87DE-27C022FF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AA5E-9188-4DA4-B8E9-78DF5036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9F07-B228-4198-880F-976D851B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2650-DC82-415B-8AA5-FC240C40D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7FC-9FDF-4891-9520-D5432706D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5A3E-8546-4BE6-B28B-16A17FEC4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4C438-A1A4-4D4E-A1F5-C0342D1F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1DA7-0B1B-45AB-BF49-C51F6305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F50D-C19B-4298-8B75-E1FCB6E88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8F11-156E-436B-8C22-3CB7C0352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52D9-F089-4010-B78A-5B58AA2C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96E20-0EA9-4CFB-B2BD-59B82317A3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