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83109"/>
        <c:axId val="94757676"/>
      </c:barChart>
      <c:catAx>
        <c:axId val="47983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57676"/>
        <c:crosses val="autoZero"/>
        <c:auto val="1"/>
        <c:lblAlgn val="ctr"/>
        <c:lblOffset val="100"/>
        <c:noMultiLvlLbl val="0"/>
      </c:catAx>
      <c:valAx>
        <c:axId val="94757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83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033-D3D8-48BB-A949-9DAFCB29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104-877B-42C3-92EC-13C96939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528-04E7-4D1C-9512-75D3BD2C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877-F85E-4F2C-AE44-9A5A928E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2E5-0B76-4A3F-AC90-D64EFE04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9B9-D611-45A1-BD5B-D7C30B64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08B-B8CC-4CA3-A105-82AB4A7B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686-8A32-45A9-BD71-6F847E80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09C-6086-4CEE-B062-AFB0F0B3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6BA-CE7E-4ABC-9454-3F6BD49B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084-2C07-4768-860B-B5EBA805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15A-4D61-4F96-9EA3-8748DFFA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8938B-1D86-458F-929C-85509F5436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