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797779"/>
        <c:axId val="64650254"/>
      </c:barChart>
      <c:catAx>
        <c:axId val="977977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650254"/>
        <c:crosses val="autoZero"/>
        <c:auto val="1"/>
        <c:lblAlgn val="ctr"/>
        <c:lblOffset val="100"/>
        <c:noMultiLvlLbl val="0"/>
      </c:catAx>
      <c:valAx>
        <c:axId val="646502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7977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8157-EB34-433D-8EB6-BF2BE3314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E9CE-C3E2-4716-8217-98AB8FA26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1987-1702-4CE5-B9F6-BE4F4F0D5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13EA-9258-44AD-BF64-C9A1B480B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1DFA-35B9-43E0-BA92-6E7A3CD84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4E37-62F5-4798-AD16-B458F0BB0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A3B0-8EE6-4518-9CEB-C78ABB3E4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2629-F812-4E98-AE7B-E0E3B495B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E69D-E7C4-4098-A7B3-239099A43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275F-5C43-4A1F-B401-1E4116F4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1C6F-4285-47AC-A754-23C146487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A0F9-449A-401E-86F9-0486F75C3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5260EA-3FD8-4E30-8E64-6732E174F23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